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4.png" ContentType="image/png"/>
  <Override PartName="/ppt/media/image22.jpeg" ContentType="image/jpeg"/>
  <Override PartName="/ppt/media/image14.png" ContentType="image/png"/>
  <Override PartName="/ppt/media/image3.png" ContentType="image/png"/>
  <Override PartName="/ppt/media/image17.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24.jpeg" ContentType="image/jpeg"/>
  <Override PartName="/ppt/media/image15.png" ContentType="image/pn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8EB2-5C27-4EC6-9022-128A3E8D5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is a mark made by a moving point and having psychological impact according to its direction, weight, and the variations in its direction and weight. It is an enormously useful and versatile graphic device that is made to function in both visual and verbal ways. It can act as as a symbolic language, or it can communicate emotion through its character and dir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are used to communicate directions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in the form of maps is readily recognized as a symbolic representation of a place. The place may be a local neighborhood, or the entire world. It may be a carefully measured representation, or a stylized diagram, such as a subway map. In either case, we understand it to be a device by which we can understand the relationship between places; how to get from "here" to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s are another readily recognizable linear device. They are widely used to communicate quantitative information and relationships in a visual way. From the time we first meet them in basic algebra, to the last time we picked up a copy of USA Today, we encounter and interpret graph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define the un-def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acute curves, on the other hand, suggest confusion, turbulence, even frenzy, as in the violence of waves in a storm, the chaos of a tangled thread, or the turmoil of lines suggested by the forms of a crowd. The complicated curves used to form the mother in the family group shown above suggest a fussy, frivolous personali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also communicates emotion and states of mind through its character and direction. The variations of meaning generally relate to our bodily experience of line and dire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arrangements of line are commonly understood to carry certain kind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alligraphy is recognizable as a representation of words, even when we do not know the language. Calligraphic imagery is often used by modern artists simply because of the mysterious messages implied in the "code" of unknow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Horizontal line suggests a feeling of rest or repose. Objects parallel to the earth are at rest in relation to gravity. Therefore compositions in which horizontal lines dominate tend to be quiet and restful in feeling. One of the hallmarks of Frank Lloyd Wright's architectural style is its use of strong horizontal elements which stress the relationship of the structure to the land.</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Vertical lines communicate a feeling of loftiness and spirituality. Erect lines seem to extend upwards beyond human reach, toward the sky. They often dominate public architecture, from cathedrals to corporate headquarters. Extended perpendicular lines suggest an overpowering grandeur, beyond ordinary human measur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Diagonal lines suggest a feeling of movement or direction. Since objects in a diagonal position are unstable in relation to gravity, being neither vertical nor horizontal, they are either about to fall, or are already in motion, as is certainly the case for this group of dancers. In a two dimensional composition diagonal lines are also used to indicate depth, an illusion of perspective that pulls the viewer into the picture-creating an illusion of a space that one could move about within. Thus if a feeling of movement or speed is desired, or a feeling of activity, diagonal lines can be used.</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Horizontal and vertical lines in combination communicate stability and solidity. Rectilinear forms stay put in relation to gravity, and are not likely to tip over. This stability suggests permanence, reliability and safety. In the case of the man in this family group, the lines seem to imply stability to the point of stodgines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Deep, acute curves, on the other hand, suggest confusion, turbulence, even frenzy, as in the violence of waves in a storm, the chaos of a tangled thread, or the turmoil of lines suggested by the forms of a crowd. The complicated curves used to form the mother in the family group shown above suggest a fussy, frivolous personalit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Curved lines do vary in meaning, however. Soft, shallow curves suggest comfort, safety, familiarity, relaxation. They recall the curves of the human body, and therefore have a pleasing, sensual qualit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The quality of the line is in itself a fundamental visual language, to an extent that cannot be claimed for any other single element. Its use is so universal that we are all profoundly sensitive to i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lines do vary in meaning, however. Soft, shallow curves suggest comfort, safety, familiarity, relaxation. They recall the curves of the human body, and therefore have a pleasing, sensual qualit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is not necessarily an artificial creation of the artist or designer; it exists in nature as a structural feature such as branches, or as surface design, such as striping on a tiger or a seash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are found in nat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are used to create textures and patterns, as well as moving the eye around the visual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are found in commercial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function independently to suggest forms that can be recognized, even when the lines are limited in ex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can be combined with other lines to create textures and patterns. The use of line in combination results in the development of form and value, which are other elements of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ine is not always explicit. It can exist by implication, as the edge of forms. As young children we usually begin drawing landscapes by making outlines for earth, sky, and other objects. Gradually we learn that objects do not have such outlines and that color/value changes define the edges of shapes, creating implicit 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we can speak of a horizon "line," or the "lines" of a car or a fashion silhouette, even though we know there is no literal line present. For additional visual examples of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e Art and abstra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master works of a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aphic Design (including web design and product desig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erformance art and our very interactions with hum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onal lines suggest a feeling of movement or direction. Since objects in a diagonal position are unstable in relation to gravity, being neither vertical nor horizontal, they are either about to fall, or are already in motion, as is certainly the case for this group of dancers. In a two dimensional composition diagonal lines are also used to indicate depth, an illusion of perspective that pulls the viewer into the picture-creating an illusion of a space that one could move about within. Thus if a feeling of movement or speed is desired, or a feeling of activity, diagonal lines can be us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 suggests a feeling of rest or repose. Objects parallel to the earth are at rest in relation to gravity. Therefore compositions in which horizontal lines dominate tend to be quiet and restful in feeling. One of the hallmarks of Frank Lloyd Wright's architectural style is its use of strong horizontal elements which stress the relationship of the structure to the la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C005D-0057-455F-AFA8-419913E3E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4E54A-1559-42E9-9F40-A448F22A7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EA785-337F-4BDF-8E00-26237B50A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7CE2D-1229-47FB-BB00-1B8FC12ED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BC03-1B2C-4D50-9782-EE135750B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32F9F-FEFB-41C5-B09F-8A4E52FA5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22E1D-E19C-4BDD-9919-D86834734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AA94D-0529-40C6-9C3A-7C1357266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CDE40-4832-4C7E-BA76-E432AA87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EA74-1FE6-4197-A49D-A3C91758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811D-32BE-402E-961B-FD82F148B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6E4E-D87A-45B9-8128-ED39BE643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88DC-D5AB-4174-AFE1-44B0709B1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838080" y="1752480"/>
            <a:ext cx="2895840" cy="5105520"/>
          </a:xfrm>
          <a:prstGeom prst="rect">
            <a:avLst/>
          </a:prstGeom>
          <a:solidFill>
            <a:srgbClr val="ffffff"/>
          </a:solid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80000"/>
                </a:solidFill>
                <a:latin typeface="Futura"/>
              </a:rPr>
              <a:t>Elements</a:t>
            </a:r>
            <a:r>
              <a:rPr b="0" lang="en-US" sz="2800" spc="-1" strike="noStrike">
                <a:solidFill>
                  <a:srgbClr val="a80000"/>
                </a:solidFill>
                <a:latin typeface="Futura"/>
              </a:rPr>
              <a:t> </a:t>
            </a:r>
            <a:r>
              <a:rPr b="0" lang="en-US" sz="4400" spc="-1" strike="noStrike">
                <a:solidFill>
                  <a:srgbClr val="a80000"/>
                </a:solidFill>
                <a:latin typeface="Edwardian Script ITC"/>
              </a:rPr>
              <a:t>of</a:t>
            </a:r>
            <a:endParaRPr b="0" lang="en-US" sz="4400" spc="-1" strike="noStrike">
              <a:solidFill>
                <a:srgbClr val="000000"/>
              </a:solidFill>
              <a:latin typeface="Arial"/>
            </a:endParaRPr>
          </a:p>
          <a:p>
            <a:pPr marL="3394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80000"/>
                </a:solidFill>
                <a:latin typeface="Futura"/>
              </a:rPr>
              <a:t>Art &amp; Design</a:t>
            </a:r>
            <a:endParaRPr b="0" lang="en-US" sz="3600" spc="-1" strike="noStrike">
              <a:solidFill>
                <a:srgbClr val="000000"/>
              </a:solidFill>
              <a:latin typeface="Arial"/>
            </a:endParaRPr>
          </a:p>
          <a:p>
            <a:pPr lvl="1" marL="735480" indent="-282960">
              <a:lnSpc>
                <a:spcPct val="2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Line</a:t>
            </a:r>
            <a:endParaRPr b="0" lang="en-US" sz="2000" spc="-1" strike="noStrike">
              <a:solidFill>
                <a:srgbClr val="000000"/>
              </a:solidFill>
              <a:latin typeface="Arial"/>
            </a:endParaRPr>
          </a:p>
          <a:p>
            <a:pPr lvl="1" marL="735480" indent="-282960">
              <a:lnSpc>
                <a:spcPct val="1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Shape</a:t>
            </a:r>
            <a:endParaRPr b="0" lang="en-US" sz="2000" spc="-1" strike="noStrike">
              <a:solidFill>
                <a:srgbClr val="000000"/>
              </a:solidFill>
              <a:latin typeface="Arial"/>
            </a:endParaRPr>
          </a:p>
          <a:p>
            <a:pPr lvl="1" marL="735480" indent="-282960">
              <a:lnSpc>
                <a:spcPct val="1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Color</a:t>
            </a:r>
            <a:endParaRPr b="0" lang="en-US" sz="2000" spc="-1" strike="noStrike">
              <a:solidFill>
                <a:srgbClr val="000000"/>
              </a:solidFill>
              <a:latin typeface="Arial"/>
            </a:endParaRPr>
          </a:p>
          <a:p>
            <a:pPr lvl="1" marL="735480" indent="-282960">
              <a:lnSpc>
                <a:spcPct val="1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Value</a:t>
            </a:r>
            <a:endParaRPr b="0" lang="en-US" sz="2000" spc="-1" strike="noStrike">
              <a:solidFill>
                <a:srgbClr val="000000"/>
              </a:solidFill>
              <a:latin typeface="Arial"/>
            </a:endParaRPr>
          </a:p>
          <a:p>
            <a:pPr lvl="1" marL="735480" indent="-282960">
              <a:lnSpc>
                <a:spcPct val="1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Texture</a:t>
            </a:r>
            <a:endParaRPr b="0" lang="en-US" sz="2000" spc="-1" strike="noStrike">
              <a:solidFill>
                <a:srgbClr val="000000"/>
              </a:solidFill>
              <a:latin typeface="Arial"/>
            </a:endParaRPr>
          </a:p>
        </p:txBody>
      </p:sp>
      <p:pic>
        <p:nvPicPr>
          <p:cNvPr id="49" name="" descr=""/>
          <p:cNvPicPr/>
          <p:nvPr/>
        </p:nvPicPr>
        <p:blipFill>
          <a:blip r:embed="rId1"/>
          <a:stretch/>
        </p:blipFill>
        <p:spPr>
          <a:xfrm>
            <a:off x="4572000" y="230040"/>
            <a:ext cx="4416480" cy="6397920"/>
          </a:xfrm>
          <a:prstGeom prst="rect">
            <a:avLst/>
          </a:prstGeom>
          <a:ln w="0">
            <a:noFill/>
          </a:ln>
        </p:spPr>
      </p:pic>
      <p:sp>
        <p:nvSpPr>
          <p:cNvPr id="50" name="PlaceHolder 2"/>
          <p:cNvSpPr>
            <a:spLocks noGrp="1"/>
          </p:cNvSpPr>
          <p:nvPr>
            <p:ph type="title"/>
          </p:nvPr>
        </p:nvSpPr>
        <p:spPr>
          <a:xfrm>
            <a:off x="0" y="228240"/>
            <a:ext cx="4572000" cy="152388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000000"/>
                </a:solidFill>
                <a:latin typeface="Futura Condensed"/>
              </a:rPr>
              <a:t>  </a:t>
            </a:r>
            <a:r>
              <a:rPr b="1" lang="en-US" sz="11700" spc="-1" strike="noStrike">
                <a:solidFill>
                  <a:srgbClr val="000000"/>
                </a:solidFill>
                <a:latin typeface="Futura Condensed"/>
              </a:rPr>
              <a:t>Line</a:t>
            </a:r>
            <a:endParaRPr b="0" lang="en-US" sz="11700" spc="-1" strike="noStrike">
              <a:solidFill>
                <a:srgbClr val="000000"/>
              </a:solidFill>
              <a:latin typeface="Arial"/>
            </a:endParaRPr>
          </a:p>
        </p:txBody>
      </p:sp>
      <p:sp>
        <p:nvSpPr>
          <p:cNvPr id="51" name=""/>
          <p:cNvSpPr/>
          <p:nvPr/>
        </p:nvSpPr>
        <p:spPr>
          <a:xfrm flipH="1">
            <a:off x="-152640" y="6248520"/>
            <a:ext cx="4724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28600" y="228600"/>
            <a:ext cx="6477120" cy="4465800"/>
          </a:xfrm>
          <a:prstGeom prst="rect">
            <a:avLst/>
          </a:prstGeom>
          <a:ln w="0">
            <a:noFill/>
          </a:ln>
        </p:spPr>
      </p:pic>
      <p:pic>
        <p:nvPicPr>
          <p:cNvPr id="87" name="" descr=""/>
          <p:cNvPicPr/>
          <p:nvPr/>
        </p:nvPicPr>
        <p:blipFill>
          <a:blip r:embed="rId2"/>
          <a:stretch/>
        </p:blipFill>
        <p:spPr>
          <a:xfrm>
            <a:off x="3276720" y="4181400"/>
            <a:ext cx="5661000" cy="24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04640" y="544680"/>
            <a:ext cx="8332920" cy="576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152280" y="536400"/>
            <a:ext cx="8839440" cy="578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2438280" y="152280"/>
            <a:ext cx="4368960" cy="655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5122800" cy="6781680"/>
          </a:xfrm>
          <a:prstGeom prst="rect">
            <a:avLst/>
          </a:prstGeom>
          <a:ln w="0">
            <a:noFill/>
          </a:ln>
        </p:spPr>
      </p:pic>
      <p:pic>
        <p:nvPicPr>
          <p:cNvPr id="100" name="" descr=""/>
          <p:cNvPicPr/>
          <p:nvPr/>
        </p:nvPicPr>
        <p:blipFill>
          <a:blip r:embed="rId2"/>
          <a:stretch/>
        </p:blipFill>
        <p:spPr>
          <a:xfrm>
            <a:off x="5715000" y="76320"/>
            <a:ext cx="2981160" cy="670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304920" y="220680"/>
            <a:ext cx="8531280" cy="641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2413080" y="152280"/>
            <a:ext cx="4316400" cy="655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2362320" y="152280"/>
            <a:ext cx="4360680" cy="655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9144000" cy="11430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utura Condensed"/>
              </a:rPr>
              <a:t>Line Direction </a:t>
            </a:r>
            <a:r>
              <a:rPr b="0" lang="en-US" sz="5400" spc="-1" strike="noStrike">
                <a:solidFill>
                  <a:srgbClr val="a80000"/>
                </a:solidFill>
                <a:latin typeface="Futura Condensed"/>
              </a:rPr>
              <a:t>&amp;</a:t>
            </a:r>
            <a:r>
              <a:rPr b="0" lang="en-US" sz="5400" spc="-1" strike="noStrike">
                <a:solidFill>
                  <a:srgbClr val="000000"/>
                </a:solidFill>
                <a:latin typeface="Futura Condensed"/>
              </a:rPr>
              <a:t> Commun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304920" y="1828440"/>
            <a:ext cx="8534160" cy="4800600"/>
          </a:xfrm>
          <a:prstGeom prst="rect">
            <a:avLst/>
          </a:prstGeom>
          <a:solidFill>
            <a:srgbClr val="ffffff"/>
          </a:solidFill>
          <a:ln w="0">
            <a:noFill/>
          </a:ln>
        </p:spPr>
        <p:txBody>
          <a:bodyPr lIns="90000" rIns="90000" tIns="46800" bIns="46800" anchor="t">
            <a:normAutofit fontScale="92000"/>
          </a:bodyPr>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Horizontal line</a:t>
            </a:r>
            <a:r>
              <a:rPr b="0" lang="en-US" sz="1800" spc="-1" strike="noStrike">
                <a:solidFill>
                  <a:srgbClr val="000000"/>
                </a:solidFill>
                <a:latin typeface="Futura"/>
              </a:rPr>
              <a:t> suggests a feeling of rest or repose.</a:t>
            </a:r>
            <a:endParaRPr b="0" lang="en-US" sz="18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Objects parallel to the earth are at rest in relation to gravity.</a:t>
            </a:r>
            <a:endParaRPr b="0" lang="en-US" sz="14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Compositions in which horizontal lines dominate tend to be quiet and restful in feeling.</a:t>
            </a:r>
            <a:endParaRPr b="0" lang="en-US" sz="1400" spc="-1" strike="noStrike">
              <a:solidFill>
                <a:srgbClr val="000000"/>
              </a:solidFill>
              <a:latin typeface="Arial"/>
            </a:endParaRPr>
          </a:p>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Vertical lines</a:t>
            </a:r>
            <a:r>
              <a:rPr b="0" lang="en-US" sz="1800" spc="-1" strike="noStrike">
                <a:solidFill>
                  <a:srgbClr val="000000"/>
                </a:solidFill>
                <a:latin typeface="Futura"/>
              </a:rPr>
              <a:t> communicate a feeling of attention and strength.</a:t>
            </a:r>
            <a:endParaRPr b="0" lang="en-US" sz="18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Erect lines seem to extend upwards beyond human reach, toward the sky.</a:t>
            </a:r>
            <a:endParaRPr b="0" lang="en-US" sz="1400" spc="-1" strike="noStrike">
              <a:solidFill>
                <a:srgbClr val="000000"/>
              </a:solidFill>
              <a:latin typeface="Arial"/>
            </a:endParaRPr>
          </a:p>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Diagonal lines</a:t>
            </a:r>
            <a:r>
              <a:rPr b="0" lang="en-US" sz="1800" spc="-1" strike="noStrike">
                <a:solidFill>
                  <a:srgbClr val="000000"/>
                </a:solidFill>
                <a:latin typeface="Futura"/>
              </a:rPr>
              <a:t> suggest a feeling of movement or direction.</a:t>
            </a:r>
            <a:endParaRPr b="0" lang="en-US" sz="1800" spc="-1" strike="noStrike">
              <a:solidFill>
                <a:srgbClr val="000000"/>
              </a:solidFill>
              <a:latin typeface="Arial"/>
            </a:endParaRPr>
          </a:p>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Horizontal and vertical lines in combination</a:t>
            </a:r>
            <a:r>
              <a:rPr b="0" lang="en-US" sz="1800" spc="-1" strike="noStrike">
                <a:solidFill>
                  <a:srgbClr val="000000"/>
                </a:solidFill>
                <a:latin typeface="Futura"/>
              </a:rPr>
              <a:t> communicate stability and solidity.</a:t>
            </a:r>
            <a:endParaRPr b="0" lang="en-US" sz="1800" spc="-1" strike="noStrike">
              <a:solidFill>
                <a:srgbClr val="000000"/>
              </a:solidFill>
              <a:latin typeface="Arial"/>
            </a:endParaRPr>
          </a:p>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Curved lines</a:t>
            </a:r>
            <a:r>
              <a:rPr b="0" lang="en-US" sz="1800" spc="-1" strike="noStrike">
                <a:solidFill>
                  <a:srgbClr val="000000"/>
                </a:solidFill>
                <a:latin typeface="Futura"/>
              </a:rPr>
              <a:t> vary in meaning, but as a general guide;</a:t>
            </a:r>
            <a:endParaRPr b="0" lang="en-US" sz="18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Soft, shallow curves suggest comfort and safety, familiarity, relaxation.</a:t>
            </a:r>
            <a:endParaRPr b="0" lang="en-US" sz="14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Deep, acute curves suggest confusion, turbulence, even frenzy, as in the chaos</a:t>
            </a:r>
            <a:br>
              <a:rPr sz="1400"/>
            </a:br>
            <a:r>
              <a:rPr b="0" lang="en-US" sz="1400" spc="-1" strike="noStrike">
                <a:solidFill>
                  <a:srgbClr val="000000"/>
                </a:solidFill>
                <a:latin typeface="Futura"/>
              </a:rPr>
              <a:t>of a tangled thread, or the turmoil of lines suggested by the forms of a crow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28600" y="98280"/>
            <a:ext cx="8686800" cy="1425600"/>
          </a:xfrm>
          <a:prstGeom prst="rect">
            <a:avLst/>
          </a:prstGeom>
          <a:ln w="0">
            <a:noFill/>
          </a:ln>
        </p:spPr>
      </p:pic>
      <p:pic>
        <p:nvPicPr>
          <p:cNvPr id="55" name="" descr=""/>
          <p:cNvPicPr/>
          <p:nvPr/>
        </p:nvPicPr>
        <p:blipFill>
          <a:blip r:embed="rId2"/>
          <a:srcRect l="0" t="9685" r="0" b="0"/>
          <a:stretch/>
        </p:blipFill>
        <p:spPr>
          <a:xfrm>
            <a:off x="228600" y="1525680"/>
            <a:ext cx="5154480" cy="2131920"/>
          </a:xfrm>
          <a:prstGeom prst="rect">
            <a:avLst/>
          </a:prstGeom>
          <a:ln w="0">
            <a:noFill/>
          </a:ln>
        </p:spPr>
      </p:pic>
      <p:pic>
        <p:nvPicPr>
          <p:cNvPr id="56" name="" descr=""/>
          <p:cNvPicPr/>
          <p:nvPr/>
        </p:nvPicPr>
        <p:blipFill>
          <a:blip r:embed="rId3"/>
          <a:srcRect l="0" t="0" r="0" b="4229"/>
          <a:stretch/>
        </p:blipFill>
        <p:spPr>
          <a:xfrm>
            <a:off x="5610240" y="1676520"/>
            <a:ext cx="3305160" cy="4952880"/>
          </a:xfrm>
          <a:prstGeom prst="rect">
            <a:avLst/>
          </a:prstGeom>
          <a:ln w="0">
            <a:noFill/>
          </a:ln>
        </p:spPr>
      </p:pic>
      <p:sp>
        <p:nvSpPr>
          <p:cNvPr id="57" name=""/>
          <p:cNvSpPr/>
          <p:nvPr/>
        </p:nvSpPr>
        <p:spPr>
          <a:xfrm>
            <a:off x="5334120" y="12952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4572000" y="3733920"/>
            <a:ext cx="762120" cy="666720"/>
          </a:xfrm>
          <a:prstGeom prst="line">
            <a:avLst/>
          </a:prstGeom>
          <a:ln w="792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flipV="1">
            <a:off x="4572000" y="4495680"/>
            <a:ext cx="762120" cy="63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flipV="1">
            <a:off x="4267080" y="5257440"/>
            <a:ext cx="1067040" cy="8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1" name="" descr=""/>
          <p:cNvPicPr/>
          <p:nvPr/>
        </p:nvPicPr>
        <p:blipFill>
          <a:blip r:embed="rId4"/>
          <a:srcRect l="0" t="0" r="0" b="6845"/>
          <a:stretch/>
        </p:blipFill>
        <p:spPr>
          <a:xfrm>
            <a:off x="152280" y="3581280"/>
            <a:ext cx="459108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2" name=""/>
          <p:cNvSpPr/>
          <p:nvPr/>
        </p:nvSpPr>
        <p:spPr>
          <a:xfrm>
            <a:off x="0" y="3429000"/>
            <a:ext cx="480060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80000"/>
                </a:solidFill>
                <a:latin typeface="Edwardian Script ITC"/>
              </a:rPr>
              <a:t>Lines in nature</a:t>
            </a:r>
            <a:endParaRPr b="0" lang="en-US" sz="2300" spc="-1" strike="noStrike">
              <a:solidFill>
                <a:srgbClr val="000000"/>
              </a:solidFill>
              <a:latin typeface="Arial"/>
            </a:endParaRPr>
          </a:p>
        </p:txBody>
      </p:sp>
      <p:pic>
        <p:nvPicPr>
          <p:cNvPr id="63" name="" descr=""/>
          <p:cNvPicPr/>
          <p:nvPr/>
        </p:nvPicPr>
        <p:blipFill>
          <a:blip r:embed="rId1"/>
          <a:stretch/>
        </p:blipFill>
        <p:spPr>
          <a:xfrm>
            <a:off x="4630680" y="152280"/>
            <a:ext cx="4361040" cy="6553440"/>
          </a:xfrm>
          <a:prstGeom prst="rect">
            <a:avLst/>
          </a:prstGeom>
          <a:ln w="0">
            <a:noFill/>
          </a:ln>
        </p:spPr>
      </p:pic>
      <p:pic>
        <p:nvPicPr>
          <p:cNvPr id="64" name="" descr=""/>
          <p:cNvPicPr/>
          <p:nvPr/>
        </p:nvPicPr>
        <p:blipFill>
          <a:blip r:embed="rId2"/>
          <a:stretch/>
        </p:blipFill>
        <p:spPr>
          <a:xfrm>
            <a:off x="152280" y="3946680"/>
            <a:ext cx="4267440" cy="2759040"/>
          </a:xfrm>
          <a:prstGeom prst="rect">
            <a:avLst/>
          </a:prstGeom>
          <a:ln w="0">
            <a:noFill/>
          </a:ln>
        </p:spPr>
      </p:pic>
      <p:pic>
        <p:nvPicPr>
          <p:cNvPr id="65" name="" descr=""/>
          <p:cNvPicPr/>
          <p:nvPr/>
        </p:nvPicPr>
        <p:blipFill>
          <a:blip r:embed="rId3"/>
          <a:stretch/>
        </p:blipFill>
        <p:spPr>
          <a:xfrm>
            <a:off x="152280" y="152280"/>
            <a:ext cx="4267440" cy="319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rcRect l="4455" t="3082" r="4455" b="675"/>
          <a:stretch/>
        </p:blipFill>
        <p:spPr>
          <a:xfrm>
            <a:off x="2370240" y="152280"/>
            <a:ext cx="4259160" cy="655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073240" y="304920"/>
            <a:ext cx="4997520" cy="62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378000" y="1014480"/>
            <a:ext cx="8385120" cy="482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387520" y="152280"/>
            <a:ext cx="4368960" cy="655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1295280" y="324000"/>
            <a:ext cx="6553440" cy="620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304920" y="406440"/>
            <a:ext cx="8531280" cy="604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7:11:35Z</dcterms:created>
  <dc:creator>Kevin Keaney</dc:creator>
  <dc:description/>
  <dc:language>en-US</dc:language>
  <cp:lastModifiedBy>Kevin Keaney</cp:lastModifiedBy>
  <dcterms:modified xsi:type="dcterms:W3CDTF">2009-09-07T19:16:13Z</dcterms:modified>
  <cp:revision>8</cp:revision>
  <dc:subject/>
  <dc:title>PowerPoint Presentation</dc:title>
</cp:coreProperties>
</file>